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52D-A35E-4F15-AB84-44D86F34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EC6-F287-4B2C-B57B-87DE1B9A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19A-D864-427C-9397-A9D84564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227-AE61-43C6-896B-093A82C2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34A-62D1-4460-9FEE-2F13CE2F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046-D50D-4BE5-A08B-06401112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11A-6BD4-4045-BC0F-4F8227F7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122-9E29-4B15-B64D-071F88A9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966-4A08-485E-95F8-81C819D7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211-EB1F-4546-83BA-912DBBE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B50-27A1-48C2-9DD6-21EFF3C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B6F-3566-4B25-B02B-73F8AE0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75F9-2BE0-4D6A-B49D-B4208F01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Bitterly cold winters and mild summer, Russia is a very cold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In Russia, the usual temperature in the winter is 9-21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When it snows in Russia, in most places, the snow doesn’t melt for 200-240 day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953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 Russai, there is a place that has a steppe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arm to hot dry summers and (very) cold winter with temperatures of -30 degrees and lower and sometimes heavy snow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ometimes very strong easterly winds, called Buran can occur, bringing freezing cold temperatures and snowsto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3720" y="380880"/>
            <a:ext cx="4952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eppe cl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4:03Z</dcterms:created>
  <dc:creator> </dc:creator>
  <dc:description/>
  <dc:language>en-US</dc:language>
  <cp:lastModifiedBy> </cp:lastModifiedBy>
  <dcterms:modified xsi:type="dcterms:W3CDTF">2010-12-20T19:17:48Z</dcterms:modified>
  <cp:revision>3</cp:revision>
  <dc:subject/>
  <dc:title>Subarctic climate</dc:title>
</cp:coreProperties>
</file>